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993-D738-4F0E-B741-AED60ADD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5EE-105E-4A21-BF3B-157B16D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412-8480-4F54-BE7A-EE2EBF8F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6D0-83B1-4BCE-B056-D85FCBB7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3F1-2CF8-492A-851F-C2013E2A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398-5879-41AE-AA91-ED507FB2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E30-82B7-42F7-BD1A-56EA4959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55E-35FF-420E-828E-946908A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F6C-79F5-4760-AA15-879E785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D92-5E96-4D25-B71A-C7E91F19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500-40CD-422A-B133-5A4BB9F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421-BA53-41FC-B1EA-2C54041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B89-A51F-4A67-B912-59AFB0B36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Автор стихов и рисунков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алентина Черня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АВН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ОЕМ</cp:lastModifiedBy>
  <dcterms:modified xsi:type="dcterms:W3CDTF">2010-01-20T07:50:26Z</dcterms:modified>
  <cp:revision>7</cp:revision>
  <dc:subject/>
  <dc:title>Автор стихов и рисунков Валентина Черняева</dc:title>
</cp:coreProperties>
</file>